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B4D-24EC-4A3A-BB89-C2BA2DF0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D41-C016-4820-BF20-2122D91F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AC4-F54A-458D-AED4-BD0C4E6B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28A-A31F-470B-BC71-6DE266FC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311-94C9-4886-A77E-4F4297F0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ECB-0CF2-4DFE-A871-0F65C6B7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A80-971C-4DB7-907E-5E3AC1C2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498-8113-434E-BCA9-9BDB3E43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5BB-546D-4686-BE6B-27615BC3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7958-495F-4391-B12E-3FAA0DE2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16A5-912E-4A0D-8BCC-99ED3CB8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A00C-7C0B-4EC7-8419-AB6FE018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38E2-1EAD-4760-8DD9-41116B984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umaya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Chapp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Arial"/>
              </a:rPr>
              <a:t>Monkey’s are awesome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’m going to have my topic on monkey’s. I hope you like monkey’s, because that’s the only thing I’m going to talk ab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keys are awesome! Monkeys are my favorite animal. They are very funny, playful,  and human like. Monkey’s are one of the most smartest animals (besides human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mazing animal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THEM!!!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5720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29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6:48Z</dcterms:modified>
  <cp:revision>6</cp:revision>
  <dc:subject/>
  <dc:title>Monkeys</dc:title>
</cp:coreProperties>
</file>